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1904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190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EE1FD7-0770-4171-8772-A52CF5E7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0A79D3-0EA5-426F-BFB4-D5CF7A6C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18F116-D8D0-4693-82ED-D3018F44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FD9EA1-6577-4DC9-B48B-38BB2824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BAF6AE7-16B8-47F5-8006-5250415B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063D23-FC40-4B12-A631-5D77047F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13C2A3-5F7D-4FF7-8EC0-E9D6121F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6D02E2-471E-4467-9D91-B8DEBC4A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8F4CAD-B073-4534-B925-1EAEE8F63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120723-A0BA-47DC-A782-71421B3F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6B9048-67E9-4373-81CD-3C3576E5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A89B92E-3436-40A6-A6E9-684628E7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B705C3D-5ACA-4100-9B98-1E39F94C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323093-D075-40D0-8E77-B8FDE94D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AE8399-1FC6-4A37-8D26-BE8B8012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D05CFC8-C318-4E78-B957-68226E601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6DCA9E-7AA2-4F25-9482-C890908A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80CDFDB-AA79-4D91-935E-C371E5C2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313AB8-FD15-45C6-96B8-CA2D59BE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84B081-78F0-4660-B7C9-82996928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5FEC50-F59F-4A36-AB94-4B9297FA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9445A3-C178-420D-9E61-4C1DEADB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B179F6-FECA-43FE-B2C5-ADCDF2CE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4374DB-4037-4A91-9553-081132B6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86234C-294C-4DD0-965A-47D05303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21A896-1E01-44D7-8C37-3B5D8933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88798E-AD77-47C0-A0C9-7FEC8208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8F25DAE-68C9-4752-95D9-B4A09CE21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F9FF4F-E969-45DD-B657-21BF925D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F32970-1CD5-4C59-98A3-A36F00FAF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C3D8DF-E9CF-4525-B9EA-A150ABD8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A5DC1D0-EEF5-41CB-ABB1-1BF73EDB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7AF6BE-09F5-4A5E-BAF0-F7222274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F2E6E6-891F-43ED-B7AB-524FA588D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D41620-A17C-4109-9742-9854BA83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FA1CD0-EBC5-48FE-9BA2-8B14095C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2080" y="89532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640" y="4865400"/>
            <a:ext cx="52099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3DDD6C-D565-49CF-9955-83804DDF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2080" y="89532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640" y="4865400"/>
            <a:ext cx="52099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645B56-BB4F-4F19-8BE6-EEBB6A09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4D93C4-DA56-4C4F-AF27-196C80517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427246-726B-46C7-9C08-946CDF50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093F3EF-47DC-454E-9A57-C40AB1F5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456384-27D4-4038-85F9-16368C48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B19682-085A-4C63-8101-74426FE85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DD81B8F-E982-481A-8F1D-98598E8C4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B7A5E28-E554-45D3-80A2-FE1CDC63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803A97-1701-4EC8-A7CA-363D6F37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DAB6CC-484A-47A0-A11D-146AAA05C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E242D5-DFA3-4DEA-94C2-A2D89F96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D55A42-C991-4652-9FE6-DE4FB164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7DDA82-B959-44E6-A212-CEFD5FBA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014661-B2F0-4B9F-A73D-E375F52E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535BE8-AFF5-4D56-AD26-B63318F8B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7B4935-7246-4C24-8516-9D4E2257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330686-C87C-4F81-9314-37578C95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A33-0E10-4BA6-8234-D563CFDB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8F1-3080-4714-B3FD-F0371406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1D9-CDE0-4244-AD29-96AD0BD7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3B3-2CEF-4762-A030-657EFE55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6195-62A3-4400-9D78-94658B3C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717C-78DA-45EA-B03F-4BBCFD9F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CB77-2681-4AB5-8B95-421E88A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D15-AAC0-42CD-8DEC-667A864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906D-7AB9-42D8-A19C-DA993244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8661-DB42-4847-A0D4-234F590E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BBF5-D1EC-4A74-95B2-F2E8581A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520-3DA0-4665-ABE4-0497D7D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87BD-B8D0-45FA-82DF-12A6C99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18B4-455A-42B0-8A56-EA4E231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857-74BE-4EB3-9899-D44C612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D03C-15C3-446F-8746-DFDB28E4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963-D438-4E66-8F52-D00D479F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80D-66C9-475F-A8ED-737C9F0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B9B-4285-4A7A-A7CB-403EC29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23F-BDEA-4862-B5DE-24BFD83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D85-890A-46C1-B51A-6EAD2FB3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803-62B5-4E4C-903A-5618232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C0B-8575-40D8-A040-9772A5C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C69-E0AA-4C78-8067-34ABD2B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1EB9-6DC8-42A0-9A70-D62665E1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098C-AFA9-4C6B-8743-04CB1514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TRODUZI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L’ INFORMAT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3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76680"/>
            <a:ext cx="79912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9800" indent="-469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 u="sng">
                <a:solidFill>
                  <a:srgbClr val="000000"/>
                </a:solidFill>
                <a:uFillTx/>
                <a:latin typeface="Verdana"/>
              </a:rPr>
              <a:t>Ing. Francesco Calime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Web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http://www.mat.unical.it/cali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E-Mail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calimeri@mat.unical.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Indirizzo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Dipartimento di Matematic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cubo 30b, Università della Calab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87036 Rende (Cosenz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Tel. Ufficio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0984 – 49647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j0285750"/>
          <p:cNvPicPr/>
          <p:nvPr/>
        </p:nvPicPr>
        <p:blipFill>
          <a:blip r:embed="rId1"/>
          <a:stretch/>
        </p:blipFill>
        <p:spPr>
          <a:xfrm>
            <a:off x="2556000" y="2421000"/>
            <a:ext cx="4776840" cy="29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3" descr="Screen_Campo_minato"/>
          <p:cNvPicPr/>
          <p:nvPr/>
        </p:nvPicPr>
        <p:blipFill>
          <a:blip r:embed="rId1"/>
          <a:stretch/>
        </p:blipFill>
        <p:spPr>
          <a:xfrm>
            <a:off x="2916360" y="2133720"/>
            <a:ext cx="32004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914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921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Word Process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emorizzare, elaborare test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Basi di Dati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Memorizzare grossi archivi di dati, recupero veloce, produrre informazioni glob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Accesso Remo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smissione e recupero di informazio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alcolo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Risolvere problemi matemati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Simulazioni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Rappresentare e elaborare informazioni che simulano l’ambiente re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Utilizzo di un elabor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me uten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Uso software applicativo esistente per creare documenti  e interfacce grafiche, effettuare calcoli, navigare in 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me sviluppato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reo nuovi programmi sullo strato del software esist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Nuovi programmi applicativ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Nuovi programmi di sistema (cioè che fanno funzionare il calcolator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rchitettura de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istemi Informatici</a:t>
            </a: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PC, Rete di Calc., 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Architettur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insieme delle componenti del sistema, descrizione delle loro funzionalità e della loro inter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uddivisione principa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66"/>
                </a:solidFill>
                <a:latin typeface="Verdana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66"/>
                </a:solidFill>
                <a:latin typeface="Verdana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Unità di Elaborazio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Processore o CPU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volge le elabor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ordina il trasferimento dei d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oè ‘esegue’ i programm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Memoria Centra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Memorizza dati e programmi per l’elabor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ccesso ra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apacità limitat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Memoria Secondari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es. Hard disk,flopp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Grande capac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sist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ccesso piu lento della 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Unità Periferi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terfaccia verso l’ester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Terminali (tastiera, vide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ampa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Bus di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llega le altre compon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RA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Memorie Secondari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Periferich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sieme di collegamenti di vario t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 di S. I. :</a:t>
            </a:r>
            <a:br>
              <a:rPr sz="3800"/>
            </a:b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ersonal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Contenitor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c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PU, 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Fis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Unità per Dischetti/C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sco Tasti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5800" y="404640"/>
            <a:ext cx="77724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rdinatori del cor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31640" y="1701720"/>
            <a:ext cx="8317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t. William Spatar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pataro@unical.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io A: Dipartimento di Matematica, Cubo 31B 2° Piano -- Studio B: Centro di Eccellenza per il Calcolo ad Alte Prestazioni (HPCC), Cubo 22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. 0984.496464 – 0984.49487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: www.mat.unical.it/spata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t.ssa Mina Catalan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atalano@mat.unical.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partimento di Matematica, Cubo 31B 2° pia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. 0984.4964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ltr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363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Work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lcolatore con elevate prest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Mini-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rvono reti di terminali con pochi ut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Main-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rvono reti di terminali con centinaia di ut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2060"/>
                </a:solidFill>
                <a:latin typeface="Verdana"/>
              </a:rPr>
              <a:t>Calcolatori High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litamente calcolatori composti da più CPU collegati in parallelo (es:Dual/Quad Core, Cluster, ec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ltr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3366"/>
                </a:solidFill>
                <a:latin typeface="Verdana"/>
              </a:rPr>
              <a:t>Reti Locali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ollegano terminali vicini tra loro; i terminali usufruiscono di servizi quali stampanti di diverso tipo, memoria di massa,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3366"/>
                </a:solidFill>
                <a:latin typeface="Verdana"/>
              </a:rPr>
              <a:t>Reti Geografich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ollegano dei calcolatori (detti) 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host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 medio-grandi distanze; ad esempio possono collegare diverse reti locali tra lo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oftware di ba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dicato alla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gestio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dell’elaborato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mpio: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Sistema Operativo (Windows, Linux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oftware applicativ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dicato alla realizzazione di specifiche applic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mpio: programmi per scrittura, gestione aziendale, navigazione su internet, ec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e ragiona il compu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i e algorit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bbiamo u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oble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quando ci poniamo u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obiettiv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a raggiungere e per raggiungerlo dobbiamo mettere a punto una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755640" y="4149720"/>
            <a:ext cx="194472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2700360" y="457992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564000" y="4076640"/>
            <a:ext cx="2232000" cy="12956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796000" y="457992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659640" y="4149720"/>
            <a:ext cx="1944720" cy="1295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 problemi tipici dell’informat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3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cerca di infor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il numero di telefono di una perso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re il numero più piccolo di una sequen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bilire se una parola precede alfabeticamente un’alt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i di elaborazione di inform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re il costo totale di un certo numero di prodott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perimetro e area di una figura geome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i di ottimizz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tra tutte le soluzioni possibili del problema quella che rende minimo un certo fattore, per esempio scegliere il mezzo di trasporto più economico per andare a Parigi oppure quello con il quale si impiega meno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04120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si costruisce la soluzione a un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è il giusto “punto di partenza” per pensare la soluzione a un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 metodologie e tecniche usa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609560"/>
            <a:ext cx="936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are l’enunci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re i dati noti e quelli da trov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ruire un mode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vere il procedimento risolu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guire le operazioni stabilite nel processo risolu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re se i risultati ottenuti corrispondono alla soluzione del problema re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3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611280" y="4292640"/>
            <a:ext cx="7129080" cy="2376360"/>
            <a:chOff x="611280" y="4292640"/>
            <a:chExt cx="7129080" cy="2376360"/>
          </a:xfrm>
        </p:grpSpPr>
        <p:sp>
          <p:nvSpPr>
            <p:cNvPr id="171" name="AutoShape 21"/>
            <p:cNvSpPr/>
            <p:nvPr/>
          </p:nvSpPr>
          <p:spPr>
            <a:xfrm>
              <a:off x="611280" y="4292640"/>
              <a:ext cx="70552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AutoShape 22"/>
            <p:cNvSpPr/>
            <p:nvPr/>
          </p:nvSpPr>
          <p:spPr>
            <a:xfrm>
              <a:off x="1360440" y="4913640"/>
              <a:ext cx="6379920" cy="1751040"/>
            </a:xfrm>
            <a:custGeom>
              <a:avLst/>
              <a:gdLst>
                <a:gd name="textAreaLeft" fmla="*/ 1116360 w 6379920"/>
                <a:gd name="textAreaRight" fmla="*/ 4625640 w 6379920"/>
                <a:gd name="textAreaTop" fmla="*/ 234360 h 1751040"/>
                <a:gd name="textAreaBottom" fmla="*/ 151668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990000" y="4605120"/>
              <a:ext cx="185112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oble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619560" y="5324400"/>
              <a:ext cx="314784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Interpret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1738080" y="6048000"/>
              <a:ext cx="185220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Modell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4324320" y="6043680"/>
              <a:ext cx="2037240" cy="513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ocedimento risolutiv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4887000" y="5534640"/>
              <a:ext cx="222264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Esecu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5250240" y="4296960"/>
              <a:ext cx="2408040" cy="6163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Verifica dei risultat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escrizione procedimento risolutiv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zione di una sequenza di passi che, partendo dai dati noti, arrivi a dare la soluzio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zion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22"/>
          <p:cNvSpPr/>
          <p:nvPr/>
        </p:nvSpPr>
        <p:spPr>
          <a:xfrm flipV="1">
            <a:off x="1258920" y="4149000"/>
            <a:ext cx="2233440" cy="107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59048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algoritmo è una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quenza finita di operazioni elementar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e porta alla risoluzion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un tempo finito una classe di problem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e un algoritmo può essere visto come una funzione da un dominio d’ingresso ad uno d’usc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700360" y="4653000"/>
            <a:ext cx="36720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501336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732720" y="501336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828720" y="5373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ti(IN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372360" y="5373720"/>
            <a:ext cx="25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sultati(OUT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: proprietà fondament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seguibilità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ogni azione deve essere eseguibile da parte dell’esecutore dell’algoritmo in un tempo fini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Non-ambiguità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ogni azione deve essere univocamente interpretabile dall'esecut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initezz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il numero totale di azioni da eseguire, per ogni insieme di dati di ingresso, deve essere finito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quivalen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e algoritmi si dicon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quivalenti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nno lo stesso dominio di ingress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nno lo stesso dominio di uscit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rrispondenza degli stessi valori nel dominio di ingresso producono gli stessi valori nel dominio di usci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quivalent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e algoritmi equivalen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niscono l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esso risult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 possono aver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versa efficie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possono esser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fondamente diversi 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sempio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tiplicare tra loro due nu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Algoritmo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me successiv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12x12 = 12+12+…+12=14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726160" y="3929040"/>
            <a:ext cx="2733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lgoritmo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ma e shift”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12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12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12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cu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rcRect l="3127" t="36241" r="3906" b="17906"/>
          <a:stretch/>
        </p:blipFill>
        <p:spPr>
          <a:xfrm>
            <a:off x="420840" y="2276640"/>
            <a:ext cx="8370720" cy="335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 program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79280" y="1628640"/>
            <a:ext cx="896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lgoritm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za finita di passi che risolve in tempo finito un probl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odif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e di scrittura di un algoritmo attraverso un insieme ordinato di frasi (“istruzioni”), scritte in un qualc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e specificano le azioni da compi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Program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o scritto in accordo con la sintassi e la semantica di un linguaggio di programm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 flipV="1">
            <a:off x="1258920" y="4075920"/>
            <a:ext cx="1441440" cy="647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179280" y="5518080"/>
            <a:ext cx="8713800" cy="574920"/>
            <a:chOff x="179280" y="5518080"/>
            <a:chExt cx="8713800" cy="574920"/>
          </a:xfrm>
        </p:grpSpPr>
        <p:sp>
          <p:nvSpPr>
            <p:cNvPr id="204" name="Oval 6"/>
            <p:cNvSpPr/>
            <p:nvPr/>
          </p:nvSpPr>
          <p:spPr>
            <a:xfrm>
              <a:off x="17928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2627280" y="5589720"/>
              <a:ext cx="504720" cy="433440"/>
            </a:xfrm>
            <a:prstGeom prst="rightArrow">
              <a:avLst>
                <a:gd name="adj1" fmla="val 50000"/>
                <a:gd name="adj2" fmla="val 2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34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LGORITM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658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M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5867280" y="5589720"/>
              <a:ext cx="576360" cy="433440"/>
            </a:xfrm>
            <a:prstGeom prst="rightArrow">
              <a:avLst>
                <a:gd name="adj1" fmla="val 50000"/>
                <a:gd name="adj2" fmla="val 33243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Linguagg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 per esprimere in maniera rigorosa un algorit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o macchina (seq.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 ad alto livello (vicini al ling. natur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: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asc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 e C++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 di program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15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SOMMA(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A, B </a:t>
            </a: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A = InputBox("Immetti un numero"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B = InputBox(“Immetti un secondo numero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“Somma:”; A+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gramma del corso (laboratori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Ambiente Operativo Window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Elaborazione dei Tes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trumenti e Servizi Interne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Fogli Elettroni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o: pot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336699"/>
                </a:solidFill>
                <a:latin typeface="Verdana"/>
              </a:rPr>
              <a:t>Problem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alcolare 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elevato alla 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^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tilizziamo le </a:t>
            </a:r>
            <a:r>
              <a:rPr b="1" i="1" lang="it-IT" sz="2600" spc="-1" strike="noStrike">
                <a:solidFill>
                  <a:srgbClr val="000000"/>
                </a:solidFill>
                <a:latin typeface="Verdana"/>
              </a:rPr>
              <a:t>variabili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N, R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izialmente Ris=1  e   N=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336699"/>
                </a:solidFill>
                <a:latin typeface="Verdana"/>
              </a:rPr>
              <a:t>Algoritmo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no a che N&gt;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alcola Ris </a:t>
            </a: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a e memorizzalo in R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crementa 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336699"/>
                </a:solidFill>
                <a:latin typeface="Verdana"/>
              </a:rPr>
              <a:t>Correttezza</a:t>
            </a: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 termine Ris=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^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o in Pseudo Pasc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potenz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Ris,N,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N);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A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s=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Whi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N&gt;0)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s=Ris*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=N-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rin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Ris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9468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gn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aborator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una macchina in grado d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eguire azioni elementari su d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'esecuzion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elle azioni elementari è richie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'elaboratore tramite comandi chiamat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e istruzioni sono espresse attraverso frasi di un opportun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gramm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la formulazione testuale di un algoritmo in un linguaggio di program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lgoritm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il processo risolutivo di un 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iassumend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sistono problemi che un elaboratore non può risolv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ì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i sono problemi non calcolabili da nessun modello di calcolo reale o astra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empi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data una funzion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 :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, stabilire se f(x) è costante per ogni valore d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sistono problemi che un elaboratore non può risolv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empi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Dato un insieme di immagini di paesaggi, determinare quello più rilassa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ù in generale, quando il problema present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oluzioni, o non è stato trovato per esso un metodo risolutivo o è dimostrato che non esiste un metodo risolu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agramma di flusso o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agrammi a blocch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È uno metodi più comuni usati per la rappresentazione di algoritm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 presenta come un insieme di  figure geometriche collegate da frec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"/>
                            </p:stCondLst>
                            <p:childTnLst>
                              <p:par>
                                <p:cTn id="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iz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tti i diagrammi a blocchi cominciano con un’ellisse che contiene la parol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1116000" y="2924280"/>
            <a:ext cx="2879640" cy="1512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iz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i in ingres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ati in ingress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ono i dati noti del problema, quelli che devono essere elaborati per arrivare alla sol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042920" y="2565360"/>
            <a:ext cx="3384720" cy="1727280"/>
          </a:xfrm>
          <a:prstGeom prst="flowChartInputOutpu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ati 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gress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perazion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a svolgere sui dati sono racchiuse in rettang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116000" y="2852640"/>
            <a:ext cx="3168720" cy="1440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erazio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l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si deve fare u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scel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ra due possibilità si usa il romb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187280" y="2637000"/>
            <a:ext cx="3313440" cy="2447640"/>
          </a:xfrm>
          <a:prstGeom prst="flowChartDecision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ro o fals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ve di accer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a Int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a final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i in usci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ati in usci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ono quelli che si vuole conoscere e costituiscono il risultato dell’elabor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900000" y="2924280"/>
            <a:ext cx="3456000" cy="1512720"/>
          </a:xfrm>
          <a:prstGeom prst="flowChartInputOutpu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ati 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ci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diagramma di flusso si conclude con un’ellisse che contiene la parol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1042920" y="2852640"/>
            <a:ext cx="3168720" cy="1728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</a:rPr>
              <a:t>fin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a della chi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ovare in un mazzo di chiavi quella che apre il lu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chiavi"/>
          <p:cNvPicPr/>
          <p:nvPr/>
        </p:nvPicPr>
        <p:blipFill>
          <a:blip r:embed="rId1"/>
          <a:stretch/>
        </p:blipFill>
        <p:spPr>
          <a:xfrm>
            <a:off x="1187280" y="3500280"/>
            <a:ext cx="1625760" cy="20574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6372360" y="287280"/>
            <a:ext cx="2771640" cy="6237360"/>
            <a:chOff x="6372360" y="287280"/>
            <a:chExt cx="2771640" cy="6237360"/>
          </a:xfrm>
        </p:grpSpPr>
        <p:pic>
          <p:nvPicPr>
            <p:cNvPr id="255" name="Picture 7" descr="diagrammablocchi1"/>
            <p:cNvPicPr/>
            <p:nvPr/>
          </p:nvPicPr>
          <p:blipFill>
            <a:blip r:embed="rId2"/>
            <a:stretch/>
          </p:blipFill>
          <p:spPr>
            <a:xfrm>
              <a:off x="6703920" y="287280"/>
              <a:ext cx="244008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8"/>
            <p:cNvSpPr/>
            <p:nvPr/>
          </p:nvSpPr>
          <p:spPr>
            <a:xfrm>
              <a:off x="7812000" y="206064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7956720" y="2060640"/>
              <a:ext cx="1440" cy="14436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6732720" y="1484280"/>
              <a:ext cx="122400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6443640" y="2060640"/>
              <a:ext cx="1441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6372360" y="2205000"/>
              <a:ext cx="43164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6732720" y="1484280"/>
              <a:ext cx="1440" cy="31687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 della st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è la strada più breve per la staz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stazione"/>
          <p:cNvPicPr/>
          <p:nvPr/>
        </p:nvPicPr>
        <p:blipFill>
          <a:blip r:embed="rId1"/>
          <a:stretch/>
        </p:blipFill>
        <p:spPr>
          <a:xfrm>
            <a:off x="1116000" y="2997360"/>
            <a:ext cx="3240000" cy="3025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iagrammablocchi2"/>
          <p:cNvPicPr/>
          <p:nvPr/>
        </p:nvPicPr>
        <p:blipFill>
          <a:blip r:embed="rId2"/>
          <a:stretch/>
        </p:blipFill>
        <p:spPr>
          <a:xfrm>
            <a:off x="5678640" y="0"/>
            <a:ext cx="3465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5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5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sti consigli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Sciuto, Bonanno, Fornaciari, Ma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ntroduzione ai Sistemi Informatici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McGraw-Hill 199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Curtin, Foley, Sen, Morris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nformatica di 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McGraw-Hill 199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Verdana"/>
              </a:rPr>
              <a:t>Introduzione agli algoritm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4360" y="1844640"/>
            <a:ext cx="35856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sa è l’Informatica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560" y="2114280"/>
            <a:ext cx="943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cienza degli elaboratori elettronici (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Computer Scien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cienza dell’infor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3733920"/>
            <a:ext cx="85136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cienza della rappresentazione, memorizzazione, elaborazione e trasmissione dell’informaz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laboratore elettronic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(o “computer” o “calcolatore”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211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uno strumento per la rappresentazione, la memorizzazione e l’elaborazione delle informazion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 programmabi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può essere predisposto per eseguire un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particolare insieme di azion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allo scopo di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0-24T15:03:09Z</dcterms:modified>
  <cp:revision>31</cp:revision>
  <dc:subject/>
  <dc:title>Diapositiva 1</dc:title>
</cp:coreProperties>
</file>